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1D1C3-FFF7-49ED-8F07-FCE876EFC30A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АЛЮТНЫЙ КУР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ВАЛЮТНЫЙ КУРС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формирование валютного курс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П в стране и за границ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м денежной массы в стране и за границ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нтные ставки в стране и за границ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ляционные ожидания в стране и за границ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льдо торгового баланса страны с внешним мир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кторы, влияющие на формирование валютного курса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ВП в стране и за границ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бъем денежной массы в стране и за границ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центные ставки в стране и за границ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нфляционные ожидания в стране и за границ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альдо торгового баланса страны с внешним миро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Факторы, влияющие на форм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ichael Mussa (1979) “Empirical Regularities in the Behavior of Exchange Rates and Theories of the Foreign Exchange Market”, Carnegie Rochester Conference S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Факторы, влияющие на формирование валютного кур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Michael Mussa (1979) “Empirical Regularities in the Behavior of Exchange Rates and Theories of the Foreign Exchange Market”, Carnegie Rochester Conference Ser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ы валютных курсов в современном мире: классификация МВ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ы валютных курсов в современном мире: классификация МВФ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ы валютных курсов в современном мире: классификация МВ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ы валютных курсов в современном мире: классификация МВФ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ы валютных курсов в современном мире: классификация МВ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ы валютных курсов в современном мире: классификация МВФ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валютного курса и национальная кредитно-денежная поли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возможная троица (impossible trini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ксированный валютный кур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ное движение капит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зависимая кредитно-денежная поли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словиях мобильности капитала фиксация валютного курса ограничивает свободу маневра в кредитно-денежной политике в целях поддержания внутреннего равновесия в от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 валютного курса и национальная кредитно-денежная политик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возможная троица (impossible trinity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иксированный валютный курс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вободное движение капитал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зависимая кредитно-денежная политик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условиях мобильности капитала фиксация валютного курса ограничивает свободу маневра в кредитно-денежной политике в целях поддержания внутреннего равновесия в открытой экономик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Обзоры исследо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rueger A. (1983) “Exchange-Rate Determination”, Cambridge: Cambridge University Pr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arno L., Taylor M. (2002) “The Economics of Exchange Rates”, Cambridge: Cambridge University Pr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Обзоры исследован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Krueger A. (1983) “Exchange-Rate Determination”, Cambridge: Cambridge University Pres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Sarno L., Taylor M. (2002) “The Economics of Exchange Rates”, Cambridge: Cambridge University Pres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л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 как экономическая категор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валютных курсов в мировых валютных системах: историческая ретроспекти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ПС, номинальный и реальный обменный курс: основные опред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форм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ы валютных курсов в современном мире: классификация МВФ. Режим валютного курса и национальная кредитно-денежная поли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лан лекц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й курс как экономическая категор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ормирование валютных курсов в мировых валютных системах: историческая ретроспектив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ПС, номинальный и реальный обменный курс: основные определ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кторы, влияющие на формирование валютного кур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ы валютных курсов в современном мире: классификация МВФ. Режим валютного курса и национальная кредитно-денежная политик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 как экономическая катего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 – это соотношение между национальной и иностранными валютами, определяемое их покупательной способностью и рядом других факто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ючевые момен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ьная способность (стоимостное соотношение) как основной фактор, определяющий равновесный валютный кур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ние значения ряда других факт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й курс как экономическая категор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й курс – это соотношение между национальной и иностранными валютами, определяемое их покупательной способностью и рядом других факторо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лючевые моменты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купательная способность (стоимостное соотношение) как основной фактор, определяющий равновесный валютный курс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изнание значения ряда других факторо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 в мировых валютных системах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сторическая ретроспекти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й курс в мировых валютных системах: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историческая ретроспектив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 в мировых валютных системах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сторическая ретроспекти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й курс в мировых валютных системах: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историческая ретроспектив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ПС, номинальный и реальный к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итет покупательной способности  (PPP) – соотношение двух валют по их покупательной способ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солютный ПП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APPP = Pf/ Pd                     (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сительный ПП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RPPP = I (Pf) / I (Pd)           (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ПС, номинальный и реальный к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аритет покупательной способности  (PPP) – соотношение двух валют по их покупательной способност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бсолютный ППС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APPP = Pf/ Pd                     (1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носительный ППС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RPPP = I (Pf) / I (Pd)           (2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ПС, номинальный и реальный к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минальный валютный курс (e) – относительная цена валют двух стран, или валюта одной страны, выраженная в денежных единицах другой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мках данного курса е определяется как количество единиц национальной валюты за единицу иностранной валю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ПС, номинальный и реальный к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оминальный валютный курс (e) – относительная цена валют двух стран, или валюта одной страны, выраженная в денежных единицах другой стран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рамках данного курса е определяется как количество единиц национальной валюты за единицу иностранной валют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ПС, номинальный и реальный к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ьный валютный курс – рыночное соотношение, в котором товары одной страны могут быть проданы в обмен на товары другой страны, или относительная цена товаров, произведенных в двух стран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R = e  * Pf/Pd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3.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R = e  *APPP                       (3.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ПС, номинальный и реальный к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альный валютный курс – рыночное соотношение, в котором товары одной страны могут быть проданы в обмен на товары другой страны, или относительная цена товаров, произведенных в двух странах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R = e  * Pf/Pd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3.1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R = e  *APPP                       (3.2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ПС, номинальный и реальный к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ПС, номинальный и реальный к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08124-4AA2-41FA-9624-4343C9CBC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AA4D1-6454-43F0-B8B5-E74B3C07C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85792-DF02-4112-A702-EAD97EA39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9373F-0532-436E-9DF0-394F7D685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2E02C5-81CE-432E-8E62-85D7E430E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7B9811-6B66-46FB-8BDF-1E5B84A1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BA9AA1-5DF3-4647-BD9F-6578AF4DF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9FE899-BF31-4186-B4A2-543A22C5A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2C9E08-9050-4F7A-83F3-F597EB67B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820475-03C2-4216-A2BD-1BB6AE86E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E446E4-022E-4376-9E86-222D6D38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18256-55BB-4816-AC0F-B898DA3E4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65BFB6-38F4-4845-BFDF-D98C22C0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9A3E6F-674C-4BD7-ADDB-3A760F4B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1C9CF5-23C8-4C84-917F-8A697AC1A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EB93C2-9F72-4CA8-8C4E-3C832AA8B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18471F-E700-436B-AF5B-59324EEDA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B93F8-9760-412F-A5AC-2BAE0688A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66366-72B7-4147-9C87-67B819535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74CF5-833C-423C-A854-05876007C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341D9-11A4-4FF4-970F-82FA82DE3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9F15D-F32C-4549-BF5F-5B6C8BD5E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81839-EF82-4C20-BF92-AF312C71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EDC04-4503-4FD0-B5A0-08017E884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CA185-6379-450B-BCA5-9B676478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CEFA9-8758-418C-A143-79546211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7ADCF-D1DF-48CE-B0D0-94F98B63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114DD-7776-46B6-BF2A-4F4A8519B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A64ED-92AB-416C-953F-B45A60FDD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92484-3BD4-41DC-9CBF-B91168690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78EBB-FA51-4B76-B6C7-E2AB5869D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76E85-B670-4107-8BF0-6448A2069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72772-E4E4-486C-BBB3-A751FDE08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F8F43-93B4-4BB3-B0C0-FF52EA09A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99A16-1FCD-4F45-BD05-1CAFB33E7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265F7-461A-4134-8E7B-A62693687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B0B94-BD15-43DA-B292-3959E4380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71660-807B-425C-98D8-61D10C97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E4B6A-CF1E-4D8E-89AB-F1BF824E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AC27D-6C1B-481B-9FDE-0CC114C9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1F980-C270-4210-9EE5-B0FB0AD7D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43AAB-4847-4341-A3BA-DDC72E41E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BBEF8-3E8A-4039-8491-B6750491D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3B9F9-026B-4A5B-AC39-F27C88A1D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094DC-1862-4E29-A28A-462B937E2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40366-30E3-41EF-A4DF-913FC4CA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72D08-2E79-43B0-B6A0-E35B4C70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EA9BF-9E30-40E4-89B7-C42BD231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71355-1E32-4746-B2BA-4B86440D7822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2ABD6-DAC7-4E35-96CB-FE74D31DF7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5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66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67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72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4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1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873C-992B-46C7-A75D-57A3B8577113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77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78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9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0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1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2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83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9C73F-9588-4A8F-994F-203BB245024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95280" y="2781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cc"/>
                </a:solidFill>
                <a:latin typeface="Tahoma"/>
              </a:rPr>
              <a:t>ВАЛЮТНЫЙ КУРС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Факторы, влияющие на формирование валютного курса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ВП в стране и за границ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бъем денежной массы в стране и за границ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оцентные ставки в стране и за границ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нфляционные ожидания в стране и за границ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альдо торгового баланса страны с внешним мир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Факторы, влияющие на формирование валютного курс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chael Mussa (1979) “Empirical Regularities in the Behavior of Exchange Rates and Theories of the Foreign Exchange Market”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Carnegie Rochester Conference Se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e5ff"/>
                </a:solidFill>
                <a:latin typeface="Garamond"/>
              </a:rPr>
              <a:t>Режимы валютных курсов в современном мире: классификация МВФ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70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Фиксированный режи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алютного курс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xchange Arrangements with No Separate Legal Tend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urrency Board Arrangem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her Conventional Fixed Peg Arrangem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e5ff"/>
                </a:solidFill>
                <a:latin typeface="Garamond"/>
              </a:rPr>
              <a:t>Режимы валютных курсов в современном мире: классификация МВФ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2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омежуточные режимы валютного курс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gged Exchange Rates with Horizontal Ban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rawling Pe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xchange Rates within Crawling Ban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e5ff"/>
                </a:solidFill>
                <a:latin typeface="Garamond"/>
              </a:rPr>
              <a:t>Режимы валютных курсов в современном мире: классификация МВФ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2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Гибкие режимы валютного курс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naged Floating with No Pre-announced Path for the Exchan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pendent Float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e5ff"/>
                </a:solidFill>
                <a:latin typeface="Garamond"/>
              </a:rPr>
              <a:t>Режим валютного курса и национальная кредитно-денежная политик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евозможная троица (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mpossible trinity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фиксированный валютный курс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вободное движение капитал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езависимая кредитно-денежная политик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В условиях мобильности капитала фиксация валютного курса ограничивает свободу маневра в кредитно-денежной политике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в целях поддержания внутреннего равновесия в открытой экономик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Обзоры исследовани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rueger A. (1983) “Exchange-Rate Determination”, Cambridge: Cambridge University Pre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arno L., Taylor M. (2002) “The Economics of Exchange Rates”, Cambridge: Cambridge University Pre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План лекци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алютный курс как экономическая категори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Формирование валютных курсов в мировых валютных системах: историческая ретроспектив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ПС, номинальный и реальный обменный курс: основные определен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Факторы, влияющие на формирование валютного курс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ежимы валютных курсов в современном мире: классификация МВФ. Режим валютного курса и национальная кредитно-денежная политик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Валютный курс как экономическая категори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алютный курс – это соотношение между национальной и иностранными валютами, определяемое их покупательной способностью и рядом других фактор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лючевые моменты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купательная способность (стоимостное соотношение) как основной фактор, определяющий равновесный валютный курс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изнание значения ряда других факторо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e5ff"/>
                </a:solidFill>
                <a:latin typeface="Garamond"/>
              </a:rPr>
              <a:t>Валютный курс в мировых валютных системах:</a:t>
            </a:r>
            <a:br>
              <a:rPr sz="3200"/>
            </a:b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e5e5ff"/>
                </a:solidFill>
                <a:latin typeface="Garamond"/>
              </a:rPr>
              <a:t>историческая ретроспектива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457200" y="1600200"/>
          <a:ext cx="8229600" cy="3465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5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алютная систе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Режим валютного курс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56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арижск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олебание валютных курсов вокруг валютных паритетов в пределах золотых точе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4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Генуэзск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олебание валютных курсов вокруг валютных парит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e5ff"/>
                </a:solidFill>
                <a:latin typeface="Garamond"/>
              </a:rPr>
              <a:t>Валютный курс в мировых валютных системах:</a:t>
            </a:r>
            <a:br>
              <a:rPr sz="3200"/>
            </a:b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e5e5ff"/>
                </a:solidFill>
                <a:latin typeface="Garamond"/>
              </a:rPr>
              <a:t>историческая ретроспектива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457200" y="1600200"/>
          <a:ext cx="8229600" cy="4535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6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алютная систе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Режим валютного курс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7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Бреттон-Вудск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олебание валютных курсов вокруг валютных паритетов, согласованных странами членами МВ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0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майск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Режим валютного курса устанавливается странами-членами МВФ самостоятельн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ППС, номинальный и реальный курсы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аритет покупательной способности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(PPP)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– соотношение двух валют по их покупательной способност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Абсолютный ПП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P = P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/ P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 (1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Относительный ПП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PPP = I (P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 / I (P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           (2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ППС, номинальный и реальный курсы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оминальный валютный курс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e)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– относительная цена валют двух стран, или валюта одной страны, выраженная в денежных единицах другой стран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рамках данного курса е определяется как количество единиц национальной валюты за единицу иностранной валют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ППС, номинальный и реальный курсы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еальный валютный курс – рыночное соотношение, в котором товары одной страны могут быть проданы в обмен на товары другой страны, или относительная цена товаров, произведенных в двух страна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 = e  * P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/P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3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.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 = e  *APPP                       (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ППС, номинальный и реальный курсы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8" name="Line 48"/>
          <p:cNvSpPr/>
          <p:nvPr/>
        </p:nvSpPr>
        <p:spPr>
          <a:xfrm flipV="1">
            <a:off x="3492360" y="242100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Line 49"/>
          <p:cNvSpPr/>
          <p:nvPr/>
        </p:nvSpPr>
        <p:spPr>
          <a:xfrm>
            <a:off x="3492360" y="306864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Line 50"/>
          <p:cNvSpPr/>
          <p:nvPr/>
        </p:nvSpPr>
        <p:spPr>
          <a:xfrm flipV="1">
            <a:off x="5580000" y="3644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Line 51"/>
          <p:cNvSpPr/>
          <p:nvPr/>
        </p:nvSpPr>
        <p:spPr>
          <a:xfrm>
            <a:off x="5580000" y="436572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Line 52"/>
          <p:cNvSpPr/>
          <p:nvPr/>
        </p:nvSpPr>
        <p:spPr>
          <a:xfrm flipV="1">
            <a:off x="7667640" y="5013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Line 53"/>
          <p:cNvSpPr/>
          <p:nvPr/>
        </p:nvSpPr>
        <p:spPr>
          <a:xfrm>
            <a:off x="7667640" y="566100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5T11:06:19Z</dcterms:modified>
  <cp:revision>12</cp:revision>
  <dc:subject/>
  <dc:title>PowerPoint Presentation</dc:title>
</cp:coreProperties>
</file>